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A931-63A2-4AD2-AF63-9DB2D117E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D083-2E52-4589-B852-73CF93D7D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05C9-1C05-433F-96C2-96A390898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AE34-7181-45B8-8DDA-194F74643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1B90-D8DE-441C-95B5-407784D22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15C9A-32D2-4E46-AC8C-1F8491520E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97B11-1A65-47F6-8890-696F51BD71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0A6F7-01AB-49CB-9116-563C372494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FA39C-0093-4760-8F06-3FB3DCFFB7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E626F-DD2B-47CE-95DB-C55F3C6B49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1C7F8-B1C9-4BF0-A7E9-D09C084D74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70203-49FF-41BB-8E16-D1FADF3A1C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1260F-3492-4052-B262-74D6C63639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9CD8B-7AFB-4CEF-B997-50F6F00DB4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D012D-B778-483A-95DF-8DEF277112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A10C0-7200-425D-97FE-4F935140E1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9ACFC-E226-4F26-BB16-0295A785EE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951F-A7E6-48BC-86DD-5813100E7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Jack Donovan</cp:lastModifiedBy>
  <dcterms:modified xsi:type="dcterms:W3CDTF">2009-06-25T22:11:39Z</dcterms:modified>
  <cp:revision>84</cp:revision>
  <dc:subject/>
  <dc:title>AT Basic System Example</dc:title>
</cp:coreProperties>
</file>