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295D-04CF-492E-B5C8-B5AB6F68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DDD6C-DFB9-4FE3-83BD-FFB711DE2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F976-5808-4FF2-8DFF-5DA255B5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8DBB-8402-4E1D-B489-824780520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A7C5-BF7C-41EF-9B8A-18593435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FEFB-E280-4E7D-923F-A0AD852D7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0EB3-B444-4A93-ACE1-19F3C43285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A705-6109-42A1-917B-EABFB429BD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DE8F-D2DE-4D9A-A8A3-0DA0C70AD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4ABE-B9C1-4849-8BBE-E0F96BD748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534D-0068-4130-9828-A49C32F14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0970F-4E30-48E7-9D82-58C7123DE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D3FE-BE58-45E7-810E-7D5EFED032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BBE9-D93A-4E93-A60C-7DACAD84B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4384-FEA7-4062-8E15-76370A23B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98E2-BAD7-45CA-8EE5-140F88532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AD018-C3AC-4E08-9CF3-A5F93EE5E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936-131D-4F0B-BF35-B7C852777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47:01Z</cp:lastPrinted>
  <dcterms:modified xsi:type="dcterms:W3CDTF">2008-06-04T22:13:32Z</dcterms:modified>
  <cp:revision>84</cp:revision>
  <dc:subject/>
  <dc:title>AT Basic System Example</dc:title>
</cp:coreProperties>
</file>