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C3555-8844-4C2B-9576-5C8B3445C6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9550B1-B383-4981-92AC-C41B26863A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49A173-45E0-4530-8E03-E8CF1C0449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171546-2283-461D-BC6C-AF4EF40C6C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A006D4-FB17-4DCE-9966-936671705E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B9DB75-A442-47A8-9CD8-9FA51CA986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631D6F-DF5D-4668-9A8D-752DCD0457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4A6E27-AB2E-4C88-8737-145DFA68B8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A45756-28C4-491D-8DAD-A3CB1C478B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0FCA43-69E2-4239-8FFB-DD370AEE22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279A2B-32C1-4342-8FC6-E56FDD05C0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94DEB3-E1BF-42A5-93C0-B1B38F97D4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36D93A-C031-4614-8D6A-3DA93B0FD9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6BAF3-A0AD-4E22-BD38-3745B7383A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6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7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8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9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0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2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3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4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5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6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0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1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2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3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5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6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7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8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0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1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3" name=""/>
            <p:cNvCxnSpPr>
              <a:stCxn id="28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5" name=""/>
            <p:cNvCxnSpPr>
              <a:endCxn id="28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7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9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0" name=""/>
            <p:cNvCxnSpPr>
              <a:stCxn id="28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1" name=""/>
            <p:cNvCxnSpPr>
              <a:stCxn id="28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2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3" name=""/>
            <p:cNvCxnSpPr>
              <a:stCxn id="29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4" name=""/>
            <p:cNvCxnSpPr>
              <a:stCxn id="29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5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6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9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0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3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4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7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8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TLM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and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ies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4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7" idx="0"/>
            <a:endCxn id="13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40" idx="2"/>
            <a:endCxn id="14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2" name=""/>
          <p:cNvCxnSpPr>
            <a:stCxn id="140" idx="0"/>
            <a:endCxn id="14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4" name=""/>
          <p:cNvCxnSpPr>
            <a:stCxn id="145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6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8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49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3" name=""/>
          <p:cNvCxnSpPr>
            <a:stCxn id="152" idx="2"/>
            <a:endCxn id="15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"/>
          <p:cNvCxnSpPr>
            <a:stCxn id="152" idx="0"/>
            <a:endCxn id="15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5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8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59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0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1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4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6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7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8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1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2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3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4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5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7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8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9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0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2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4" name=""/>
          <p:cNvCxnSpPr>
            <a:stCxn id="185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7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5" name=""/>
          <p:cNvCxnSpPr>
            <a:stCxn id="236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8" name=""/>
          <p:cNvCxnSpPr>
            <a:stCxn id="237" idx="1"/>
            <a:endCxn id="236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39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0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1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"/>
          <p:cNvCxnSpPr>
            <a:stCxn id="242" idx="1"/>
            <a:endCxn id="236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5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Jack Donovan</cp:lastModifiedBy>
  <dcterms:modified xsi:type="dcterms:W3CDTF">2008-06-05T21:45:26Z</dcterms:modified>
  <cp:revision>77</cp:revision>
  <dc:subject/>
  <dc:title>AT Basic System Example</dc:title>
</cp:coreProperties>
</file>