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D305-41DC-40B1-B174-D22191CCD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B166-C836-44DD-AB78-A7E049C13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D99F-6E84-4A9B-B9B0-08AD798A8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9248-CC27-45DB-B646-98334B22C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4E7C-DC4E-4AA0-985E-B80EE8925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8E9C2-AA9D-4F4A-8C26-0774D203D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36068-AC3F-47A7-9FF0-278681882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8E0EB-7629-4819-80EF-DDF40D6E7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CE808-7B4A-4E1C-859F-C45BDB735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8A4B-9B98-4765-B210-903595B2E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BCBF-8FCC-42DB-9199-F9BA2BDFB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7D70-5895-468D-BF8E-E1E877952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CA5C-51E2-4D54-9CC7-865D1799C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2F90-53DC-4DCC-9508-B91593FBD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4245-D87A-41A9-AF8B-3CB87B121D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C7182-9678-4A4A-86FF-2E92A9641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41E3-3046-4180-ACBE-505DF3CC1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5E2C-2B89-42C1-B012-1EDA8AFFA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5T22:07:33Z</dcterms:modified>
  <cp:revision>86</cp:revision>
  <dc:subject/>
  <dc:title>AT Basic System Example</dc:title>
</cp:coreProperties>
</file>