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3D64-ACAB-4CEF-BD7F-51D44E695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8BD6D-0B49-4792-956C-2EF180D68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6EBA-2D00-4D9C-B584-926ACB86C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BA2-2837-468B-BB55-D159D6D9B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21AB-5D52-4C10-AEC0-1122293D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9C02-80A8-4E6E-BE1B-0579EEDBD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F020-0C60-4306-9D29-05FFC991DE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D4BC-C699-4406-8A68-6AD899209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53B8-F861-4415-97E0-55F5AE92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F2838-4891-4A70-AC75-4FF2763542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6DEE-2BAB-4F41-9E87-4E2E47936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DB46-47E7-4573-BAFF-0950FDD67C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17372-B3E8-406B-860E-09B3ED202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67A1-FA60-46CD-9F08-8320C7266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0468D-948C-44A0-8CEB-BF8BC894F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E6479-BC0B-45AE-825E-FD1ADDECB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0D13-7713-4C15-A803-63044385F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EF65-7490-4861-88C9-FACF5F1E0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21:18:56Z</cp:lastPrinted>
  <dcterms:modified xsi:type="dcterms:W3CDTF">2009-06-26T16:59:39Z</dcterms:modified>
  <cp:revision>87</cp:revision>
  <dc:subject/>
  <dc:title>AT Basic System Example</dc:title>
</cp:coreProperties>
</file>