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38CB-C161-4C86-ADB5-318512E61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3763-075D-4815-86AD-172FD6021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B66E3-98CB-4871-A488-E0EDD9E14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5E64-E51D-4348-AC22-8859E4A7C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B8D91-6515-4734-84EE-363424FFC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F7509-F701-485E-8E58-68769B9EF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5C33B-5F7F-4893-89ED-C01AA9AF3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2E8D5-CD0B-41A7-AF3B-B863EA245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A873-CE24-4D3D-B7E9-F1A01BDF04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1BC73-58B8-401E-A7E1-DA63EFC3AA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588C-23FB-4BF0-908A-0A664C864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BC24D-B647-4732-84CC-1E74892A8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AE228-9FBD-4239-A84B-F929D7BBB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545A-B7FA-44B0-BAAE-D3F91BEE5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59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3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6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0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4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7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 </cp:lastModifiedBy>
  <dcterms:modified xsi:type="dcterms:W3CDTF">2009-02-07T17:01:47Z</dcterms:modified>
  <cp:revision>62</cp:revision>
  <dc:subject/>
  <dc:title>TLM2</dc:title>
</cp:coreProperties>
</file>