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6B0D-2413-4012-886B-CA65A7806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FA2A-61ED-47D0-81B4-EA43D8AA5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BE0B-37D1-4CD3-A8BA-DCA6CCFB5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AAB7-982A-48F8-950F-1734C417E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691A-5651-4AE1-B5D7-3216C5FED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2EFE-7624-4FA7-AE8A-643B9E05A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CADF6-D315-4A42-AC4B-F47A1BE1F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A3BF-CE86-47F7-B5D5-F55B44709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1D48-7428-4AC6-8EFA-5D0F6BB4C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BEE77-F94B-478E-990D-8295E0A68B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86A4-961D-4403-9F2D-FCD52D4E73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654C-D6E2-4111-BD42-F1661BFB2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CCAB-DEF3-42A2-B419-E608DFEBE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E2F48-A096-42E1-9580-9FDFEA1A5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BE52-8955-4913-868A-0923DA165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BB2F7-15DC-4BA3-90D8-45ABF4CD7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3401-124C-4EE3-9B9D-C3C038C53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8C18-6BBC-4739-960C-F7EFA83D0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Jack Donovan</cp:lastModifiedBy>
  <cp:lastPrinted>2008-06-04T18:30:41Z</cp:lastPrinted>
  <dcterms:modified xsi:type="dcterms:W3CDTF">2009-05-04T21:38:14Z</dcterms:modified>
  <cp:revision>91</cp:revision>
  <dc:subject/>
  <dc:title>AT Basic System Example</dc:title>
</cp:coreProperties>
</file>