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2877-EDF7-4182-89AD-F28B3054A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AEBA-9103-4BA4-AD80-8BF13943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1684-626D-40A4-93CB-6153D2EB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92A5F-C63B-4DAF-95C6-6787C29F7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B8BA-58FE-4FF7-A999-B1B1DA2B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07DC-8BA6-4EEC-9592-7975F43D5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3E89-0090-405A-A9AB-D99BA77B1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17709-C875-4156-BA86-2C2B5344C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0712-988D-4C74-B0C8-A2820A3E2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D95A-9AA4-42FF-AE4D-96898613B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88755-2504-4C71-8431-778E8DF46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D9F5-DDA3-4F3A-9795-E936ED87D1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98A2-0FB1-47D8-830C-0A3F091F1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8176-DF0B-4B29-BDF8-A92A47241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32DD-C251-4E93-93F3-9C347A7DE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0F80E-1AD5-4F23-990C-740C2D94A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EB66-7467-4E66-9B5F-AF24EE5F46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4B56-CB03-4BFA-81E1-8D7EB15C2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Jack Donovan</cp:lastModifiedBy>
  <dcterms:modified xsi:type="dcterms:W3CDTF">2009-06-25T22:10:05Z</dcterms:modified>
  <cp:revision>83</cp:revision>
  <dc:subject/>
  <dc:title>AT Basic System Example</dc:title>
</cp:coreProperties>
</file>