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B590-FE60-4C4C-B21D-9C7D01670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B467-3FF7-4A10-8876-97D74640D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0744-98DF-4C0A-A84A-920BCA584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1BC1-F348-42E3-9C6F-DE96BBC15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BD67-75C7-43F4-B27D-A906DA11B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34548-CE8A-461D-9A8D-35187F8BEE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63F79-8363-4B79-9C9F-7EF5A4600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728E3-1C48-4280-BA03-40255EA8FE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A45CE-CE58-41AB-B678-2883D6F339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E191F-3136-4A32-9A72-B9810BEDBD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38C8B-11D3-4FD6-8B56-C1A59C67F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80960-B661-4B28-8547-90C8DD3857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6171B-AB66-47F7-8E55-013AEBCC0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7830-479E-4063-A830-9DCA985359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4525C-2787-419D-B040-2907EE7F25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17977-3516-46FD-AC53-46B43B3DF8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1830A-BEE1-4EEF-A185-BA1EC99FB6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DF7D-F22B-4693-B5D4-6C95218B8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5T12:39:23Z</dcterms:modified>
  <cp:revision>85</cp:revision>
  <dc:subject/>
  <dc:title>AT Basic System Example</dc:title>
</cp:coreProperties>
</file>