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C893-FA04-4E33-A497-AAA8A2D3D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FA9B-022C-454D-927C-40B80B7FC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021B-2151-4757-B032-189BF455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F6FC-460C-40C8-816B-024A006B7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297C-9005-4A53-900F-6A651FF0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A578-FB42-4A2A-ABC6-B7617ED93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D9C19-C263-45A7-A92E-9455CAE34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60F9-5A10-42AF-AA25-009CC430E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A1B2-CA2F-4A96-BF76-D36CF3E29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9255-5C9B-4AD6-83F2-90705FED1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D52E5-D0C7-4A07-A1F3-5F8A0AB02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A9B85-AB4D-40F9-AD6C-B290B633F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82C79-7D66-4026-9B00-D36EF40F2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0BEA-3ACF-4377-846D-5844EC74D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59EF-41DD-4353-A772-89A215554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BF967-17F2-4E8C-B73C-62772DF53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0CBD-4552-4AE3-BA66-A2006CE79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20E0-A0F1-4D08-A21A-CE2510A23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L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ies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Jack Donovan</cp:lastModifiedBy>
  <dcterms:modified xsi:type="dcterms:W3CDTF">2009-05-04T21:26:45Z</dcterms:modified>
  <cp:revision>87</cp:revision>
  <dc:subject/>
  <dc:title>AT Basic System Example</dc:title>
</cp:coreProperties>
</file>