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7844-37BC-4A90-A597-A24B31DE2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7A86-11CC-499B-8300-3175C4135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6E06-0683-4B10-8474-073A6F65C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670A-A242-4452-A572-C4EB1A47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C1CA6-0163-4F73-A221-F4452496E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25DB7-8E84-41AF-B0E5-115CD2C07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1A17-D124-4ABC-8D16-BBDEF6767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F03DB-7A4F-4E7C-A8F2-E6A96A51B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43958-5B4E-45A5-BCA8-BECAAFF398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E25D-F5FA-49F1-BBFB-8DF228760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1ED2D-3107-4038-82D6-FECF87783F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E6922-BFAD-4F63-A4E0-F753E3510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C814-957C-4F44-9EAB-E73DD590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EEA7-29F8-4AFD-8A66-1CFB18504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61B8-499A-451B-B228-CDED625D8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394D-213C-4B7E-A627-A91CFD166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242A-A2AD-4C97-B85A-E17C88089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Charles Wilson</cp:lastModifiedBy>
  <cp:lastPrinted>2008-06-04T21:47:01Z</cp:lastPrinted>
  <dcterms:modified xsi:type="dcterms:W3CDTF">2008-06-05T21:29:01Z</dcterms:modified>
  <cp:revision>86</cp:revision>
  <dc:subject/>
  <dc:title>AT Basic System Example</dc:title>
</cp:coreProperties>
</file>